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FBFE-5083-4207-B5B5-A16453C64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208F8-640C-424A-8942-E091543E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3040E-A55A-482A-B4B9-20A7DBB7F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02E66-FB52-4894-892C-343F3777D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3E25-54F3-457D-ACDB-C3EE2B56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E9293-9C9D-417F-B52E-96C9D82E1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E0F20-3D90-4E24-BD02-EBC5C96D2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00AA-48B5-4864-8625-7A6ABD9B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AE0D2-5C22-42EB-A3ED-3E0523AD1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38A8-4BE0-41BB-9A32-AF0BCA8A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564F7-ADA3-42CD-8496-9E9C77A8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D326-E0D1-46F8-8808-9C93EFABA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8451A44-63EB-4075-8CFA-6296B3B03E3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4682240" y="8730000"/>
            <a:ext cx="2576520" cy="527760"/>
          </a:xfrm>
          <a:custGeom>
            <a:avLst/>
            <a:gdLst>
              <a:gd name="textAreaLeft" fmla="*/ 0 w 2576520"/>
              <a:gd name="textAreaRight" fmla="*/ 2576880 w 2576520"/>
              <a:gd name="textAreaTop" fmla="*/ 0 h 527760"/>
              <a:gd name="textAreaBottom" fmla="*/ 528120 h 527760"/>
            </a:gdLst>
            <a:ahLst/>
            <a:rect l="textAreaLeft" t="textAreaTop" r="textAreaRight" b="textAreaBottom"/>
            <a:pathLst>
              <a:path w="2576992" h="528283">
                <a:moveTo>
                  <a:pt x="0" y="0"/>
                </a:moveTo>
                <a:lnTo>
                  <a:pt x="2576992" y="0"/>
                </a:lnTo>
                <a:lnTo>
                  <a:pt x="2576992" y="528283"/>
                </a:lnTo>
                <a:lnTo>
                  <a:pt x="0" y="528283"/>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2903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3" name="TextBox 6"/>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
        <p:nvSpPr>
          <p:cNvPr id="54" name="Freeform 7"/>
          <p:cNvSpPr/>
          <p:nvPr/>
        </p:nvSpPr>
        <p:spPr>
          <a:xfrm>
            <a:off x="14211720" y="665640"/>
            <a:ext cx="3047040" cy="626760"/>
          </a:xfrm>
          <a:custGeom>
            <a:avLst/>
            <a:gdLst>
              <a:gd name="textAreaLeft" fmla="*/ 0 w 3047040"/>
              <a:gd name="textAreaRight" fmla="*/ 3047400 w 3047040"/>
              <a:gd name="textAreaTop" fmla="*/ 0 h 626760"/>
              <a:gd name="textAreaBottom" fmla="*/ 627120 h 626760"/>
            </a:gdLst>
            <a:ahLst/>
            <a:rect l="textAreaLeft" t="textAreaTop" r="textAreaRight" b="textAreaBottom"/>
            <a:pathLst>
              <a:path w="3047422" h="627261">
                <a:moveTo>
                  <a:pt x="0" y="0"/>
                </a:moveTo>
                <a:lnTo>
                  <a:pt x="3047422" y="0"/>
                </a:lnTo>
                <a:lnTo>
                  <a:pt x="3047422" y="627261"/>
                </a:lnTo>
                <a:lnTo>
                  <a:pt x="0" y="627261"/>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6" name="TextBox 3"/>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
        <p:nvSpPr>
          <p:cNvPr id="57" name="Freeform 4"/>
          <p:cNvSpPr/>
          <p:nvPr/>
        </p:nvSpPr>
        <p:spPr>
          <a:xfrm>
            <a:off x="14689800" y="1020240"/>
            <a:ext cx="2569320" cy="537120"/>
          </a:xfrm>
          <a:custGeom>
            <a:avLst/>
            <a:gdLst>
              <a:gd name="textAreaLeft" fmla="*/ 0 w 2569320"/>
              <a:gd name="textAreaRight" fmla="*/ 2569680 w 2569320"/>
              <a:gd name="textAreaTop" fmla="*/ 0 h 537120"/>
              <a:gd name="textAreaBottom" fmla="*/ 537480 h 537120"/>
            </a:gdLst>
            <a:ahLst/>
            <a:rect l="textAreaLeft" t="textAreaTop" r="textAreaRight" b="textAreaBottom"/>
            <a:pathLst>
              <a:path w="2569625" h="537480">
                <a:moveTo>
                  <a:pt x="0" y="0"/>
                </a:moveTo>
                <a:lnTo>
                  <a:pt x="2569625" y="0"/>
                </a:lnTo>
                <a:lnTo>
                  <a:pt x="2569625" y="537480"/>
                </a:lnTo>
                <a:lnTo>
                  <a:pt x="0" y="537480"/>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2903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4211720" y="665640"/>
            <a:ext cx="3047040" cy="626760"/>
          </a:xfrm>
          <a:custGeom>
            <a:avLst/>
            <a:gdLst>
              <a:gd name="textAreaLeft" fmla="*/ 0 w 3047040"/>
              <a:gd name="textAreaRight" fmla="*/ 3047400 w 3047040"/>
              <a:gd name="textAreaTop" fmla="*/ 0 h 626760"/>
              <a:gd name="textAreaBottom" fmla="*/ 627120 h 626760"/>
            </a:gdLst>
            <a:ahLst/>
            <a:rect l="textAreaLeft" t="textAreaTop" r="textAreaRight" b="textAreaBottom"/>
            <a:pathLst>
              <a:path w="3047422" h="627261">
                <a:moveTo>
                  <a:pt x="0" y="0"/>
                </a:moveTo>
                <a:lnTo>
                  <a:pt x="3047422" y="0"/>
                </a:lnTo>
                <a:lnTo>
                  <a:pt x="3047422" y="627261"/>
                </a:lnTo>
                <a:lnTo>
                  <a:pt x="0" y="627261"/>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4689800" y="1020240"/>
            <a:ext cx="2569320" cy="537120"/>
          </a:xfrm>
          <a:custGeom>
            <a:avLst/>
            <a:gdLst>
              <a:gd name="textAreaLeft" fmla="*/ 0 w 2569320"/>
              <a:gd name="textAreaRight" fmla="*/ 2569680 w 2569320"/>
              <a:gd name="textAreaTop" fmla="*/ 0 h 537120"/>
              <a:gd name="textAreaBottom" fmla="*/ 537480 h 537120"/>
            </a:gdLst>
            <a:ahLst/>
            <a:rect l="textAreaLeft" t="textAreaTop" r="textAreaRight" b="textAreaBottom"/>
            <a:pathLst>
              <a:path w="2569625" h="537480">
                <a:moveTo>
                  <a:pt x="0" y="0"/>
                </a:moveTo>
                <a:lnTo>
                  <a:pt x="2569625" y="0"/>
                </a:lnTo>
                <a:lnTo>
                  <a:pt x="2569625" y="537480"/>
                </a:lnTo>
                <a:lnTo>
                  <a:pt x="0" y="537480"/>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d29KkRI</dc:identifier>
  <dc:language>en-US</dc:language>
  <cp:lastModifiedBy/>
  <dcterms:modified xsi:type="dcterms:W3CDTF">2011-08-01T06:04:30Z</dcterms:modified>
  <cp:revision>1</cp:revision>
  <dc:subject/>
  <dc:title>S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